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3FA-ADF5-4E24-BFCA-D8384AAC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E4B-68EC-4A3D-B358-FDED7C2A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5D2D-57F9-40B1-AAAA-67F8B36D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3F2-3C5B-4861-B991-B91B5B1B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470-6B8D-453B-9EA4-15927A91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453-FC50-40A2-9E30-6BE21F84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CB5-9935-45C4-8C01-96711B2A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8FFC-D42C-495B-AD63-3E57229B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9B5D-276D-46F8-85DB-EBA55239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BE3-77B0-4D72-B2A1-7BDBEFF3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037-BE52-4E8D-89C4-8FAF73E7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557-85F0-4CFC-A525-47FCBDBF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094E-B3F3-4184-AD80-5AE9CEE502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72120" y="2951640"/>
            <a:ext cx="212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1.4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一次函数的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一章 一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067120" y="3970440"/>
            <a:ext cx="470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简单的一次函数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文本框 3132"/>
          <p:cNvSpPr/>
          <p:nvPr/>
        </p:nvSpPr>
        <p:spPr>
          <a:xfrm>
            <a:off x="749160" y="853920"/>
            <a:ext cx="71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体重为多少千克时，台秤的指针恰好转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度的位置？当体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克时，台秤的指针转过的角度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34819"/>
          <p:cNvSpPr/>
          <p:nvPr/>
        </p:nvSpPr>
        <p:spPr>
          <a:xfrm>
            <a:off x="828720" y="2809800"/>
            <a:ext cx="742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18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80=12/5x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=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=5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12/5×50=1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当体重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千克时，台秤的指针恰好转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8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度的位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体重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千克时，台秤的指针转过的角度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2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度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271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7"/>
          <p:cNvSpPr/>
          <p:nvPr/>
        </p:nvSpPr>
        <p:spPr>
          <a:xfrm>
            <a:off x="719280" y="879480"/>
            <a:ext cx="7662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分别有某种库存机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台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台，现决定支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台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台，已知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调运一台机器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的运费分别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调运一台机器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的运费分别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838080" y="3159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运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机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台，求总运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关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838080" y="42894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总运费最低的调运方案的最低运费是多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841320" y="882720"/>
            <a:ext cx="6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0"/>
          <p:cNvSpPr/>
          <p:nvPr/>
        </p:nvSpPr>
        <p:spPr>
          <a:xfrm>
            <a:off x="685800" y="882720"/>
            <a:ext cx="79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库存机器共：（            ）台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共需（          ）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671400" y="2241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运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      台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剩余              台运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716040" y="3019320"/>
            <a:ext cx="650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运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              台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剩余                              台运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2695680" y="223668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2554200" y="30193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0-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5541840" y="30193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〔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2-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0-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4857840" y="2241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6-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9"/>
          <p:cNvSpPr/>
          <p:nvPr/>
        </p:nvSpPr>
        <p:spPr>
          <a:xfrm>
            <a:off x="671400" y="42958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先求出总运费的关系式，再对照一次函数最值相关问题具体分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0"/>
          <p:cNvSpPr/>
          <p:nvPr/>
        </p:nvSpPr>
        <p:spPr>
          <a:xfrm>
            <a:off x="5853240" y="8701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2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1"/>
          <p:cNvSpPr/>
          <p:nvPr/>
        </p:nvSpPr>
        <p:spPr>
          <a:xfrm>
            <a:off x="2266920" y="140652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0+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6"/>
          <p:cNvSpPr/>
          <p:nvPr/>
        </p:nvSpPr>
        <p:spPr>
          <a:xfrm>
            <a:off x="914400" y="739800"/>
            <a:ext cx="71629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运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市机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台，则有题意可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 = 300x  + 5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-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4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-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8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-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200 x +  8600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总运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关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式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 = 200 x +  8600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85800" y="1546200"/>
            <a:ext cx="7543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  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 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0 x +  8600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是一次函数，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增大而增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取最小值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最大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= 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 = 86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∴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总运费最低的调运方案的最低运费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6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6"/>
          <p:cNvSpPr/>
          <p:nvPr/>
        </p:nvSpPr>
        <p:spPr>
          <a:xfrm>
            <a:off x="755640" y="1341360"/>
            <a:ext cx="7227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最大值”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最小值”的产生和自变量的取值范围相辅相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≤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= 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= ka + 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就是最小值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= 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= kc + 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就是最大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≤ 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= 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= ka + 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就是最大值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= 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= kc+ 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就是最小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圆角矩形 31"/>
          <p:cNvSpPr/>
          <p:nvPr/>
        </p:nvSpPr>
        <p:spPr>
          <a:xfrm>
            <a:off x="539640" y="911160"/>
            <a:ext cx="11923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法归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文本占位符 40961"/>
          <p:cNvSpPr/>
          <p:nvPr/>
        </p:nvSpPr>
        <p:spPr>
          <a:xfrm>
            <a:off x="457200" y="596880"/>
            <a:ext cx="822960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节约用水，某市制定以下用水收费标准，每户每月用水不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立方米，每立方米收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外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的污水处理费；超过时，超过部分每立方米收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外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污水处理费，现设一户每月用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立方米，应缴水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关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该市一户某月若用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=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立方米时，求应缴水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该市一户某月缴水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6.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求该户这月用水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占位符 43009"/>
          <p:cNvSpPr/>
          <p:nvPr/>
        </p:nvSpPr>
        <p:spPr>
          <a:xfrm>
            <a:off x="557280" y="4876920"/>
            <a:ext cx="75452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每立方米收费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+0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超过的部分每立方米收费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5+1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文本框 43010"/>
          <p:cNvSpPr/>
          <p:nvPr/>
        </p:nvSpPr>
        <p:spPr>
          <a:xfrm>
            <a:off x="380880" y="55404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函数关系式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43012"/>
          <p:cNvGrpSpPr/>
          <p:nvPr/>
        </p:nvGrpSpPr>
        <p:grpSpPr>
          <a:xfrm>
            <a:off x="961920" y="1316160"/>
            <a:ext cx="7267680" cy="1322280"/>
            <a:chOff x="961920" y="1316160"/>
            <a:chExt cx="7267680" cy="1322280"/>
          </a:xfrm>
        </p:grpSpPr>
        <p:pic>
          <p:nvPicPr>
            <p:cNvPr id="296" name="对象 43013" descr=""/>
            <p:cNvPicPr/>
            <p:nvPr/>
          </p:nvPicPr>
          <p:blipFill>
            <a:blip r:embed="rId1"/>
            <a:stretch/>
          </p:blipFill>
          <p:spPr>
            <a:xfrm>
              <a:off x="1359000" y="1371600"/>
              <a:ext cx="72540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文本框 43014"/>
            <p:cNvSpPr/>
            <p:nvPr/>
          </p:nvSpPr>
          <p:spPr>
            <a:xfrm>
              <a:off x="1814400" y="131616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1+0.3)x =1.3x        (0≤x≤8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文本框 43015"/>
            <p:cNvSpPr/>
            <p:nvPr/>
          </p:nvSpPr>
          <p:spPr>
            <a:xfrm>
              <a:off x="1600200" y="2154240"/>
              <a:ext cx="66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1.5+1.2)(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-8)+1.3×8=2.7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-11.2    (x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＞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8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文本框 43016"/>
            <p:cNvSpPr/>
            <p:nvPr/>
          </p:nvSpPr>
          <p:spPr>
            <a:xfrm>
              <a:off x="961920" y="17733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文本框 1"/>
          <p:cNvSpPr/>
          <p:nvPr/>
        </p:nvSpPr>
        <p:spPr>
          <a:xfrm>
            <a:off x="365040" y="297828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=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2.7×10-11.2=15.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2"/>
          <p:cNvSpPr/>
          <p:nvPr/>
        </p:nvSpPr>
        <p:spPr>
          <a:xfrm>
            <a:off x="360360" y="4253040"/>
            <a:ext cx="84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因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.3×8=10.4&lt;26.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所以该用户用水量超过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立方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3"/>
          <p:cNvSpPr/>
          <p:nvPr/>
        </p:nvSpPr>
        <p:spPr>
          <a:xfrm>
            <a:off x="1096920" y="4976640"/>
            <a:ext cx="43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.7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11.2=26.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解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4"/>
          <p:cNvSpPr/>
          <p:nvPr/>
        </p:nvSpPr>
        <p:spPr>
          <a:xfrm>
            <a:off x="1135080" y="3562200"/>
            <a:ext cx="43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应缴水费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.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5"/>
          <p:cNvSpPr/>
          <p:nvPr/>
        </p:nvSpPr>
        <p:spPr>
          <a:xfrm>
            <a:off x="1106640" y="5533920"/>
            <a:ext cx="42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该户这月用水量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圆角矩形 73781"/>
          <p:cNvSpPr/>
          <p:nvPr/>
        </p:nvSpPr>
        <p:spPr>
          <a:xfrm>
            <a:off x="1476360" y="1989000"/>
            <a:ext cx="6480360" cy="295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圆角矩形 31"/>
          <p:cNvSpPr/>
          <p:nvPr/>
        </p:nvSpPr>
        <p:spPr>
          <a:xfrm>
            <a:off x="684360" y="979560"/>
            <a:ext cx="1406520" cy="426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归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73780"/>
          <p:cNvSpPr/>
          <p:nvPr/>
        </p:nvSpPr>
        <p:spPr>
          <a:xfrm>
            <a:off x="1538280" y="2347920"/>
            <a:ext cx="65628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自变量的不同取值范围内表示函数关系的表达式有不同的形式，这样的函数称为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分段函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分段函数在生活中也有很多应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762120" y="909720"/>
            <a:ext cx="72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市出租车的收费标准：不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计费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后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计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1824480" y="2058840"/>
            <a:ext cx="52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出车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路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(k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1763640" y="2637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0&lt;x≤3km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时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,    y=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1835280" y="335448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x&gt;3km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时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,    y=7+2.4(x-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1927800" y="3787920"/>
            <a:ext cx="458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亮乘出租车出行，付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你能算出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亮乘车的路程吗？（精确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1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1766880" y="494028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12.3&gt;7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1739880" y="548172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12.3=7+2.4(x-3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2343240" y="59500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x=5.2(k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31"/>
          <p:cNvSpPr/>
          <p:nvPr/>
        </p:nvSpPr>
        <p:spPr>
          <a:xfrm>
            <a:off x="547560" y="539640"/>
            <a:ext cx="11923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1"/>
          <p:cNvSpPr/>
          <p:nvPr/>
        </p:nvSpPr>
        <p:spPr>
          <a:xfrm>
            <a:off x="539640" y="2133720"/>
            <a:ext cx="781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会根据问题情境的数量关系建立相应的一次函数表达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利用一次函数的相关性质解决简单的实际问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797040" y="282600"/>
            <a:ext cx="75088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请每位同学伸出一只手掌，把大拇指与小拇指尽量张开，两指间的距离称为指距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指距与身高具有如下关系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536840" y="2089080"/>
          <a:ext cx="6172200" cy="1447920"/>
        </p:xfrm>
        <a:graphic>
          <a:graphicData uri="http://schemas.openxmlformats.org/drawingml/2006/table">
            <a:tbl>
              <a:tblPr/>
              <a:tblGrid>
                <a:gridCol w="2448000"/>
                <a:gridCol w="1255680"/>
                <a:gridCol w="1230120"/>
                <a:gridCol w="1238400"/>
              </a:tblGrid>
              <a:tr h="663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指距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LF-32769-4-1877633753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LF-3-0-1236011663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LF-3-0-1236011663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LF-3-0-1236011663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</a:tr>
              <a:tr h="784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身高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LF-3-0-1236011663"/>
                        </a:rPr>
                        <a:t>1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LF-3-0-1236011663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LF-3-0-1236011663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</a:tr>
            </a:tbl>
          </a:graphicData>
        </a:graphic>
      </p:graphicFrame>
      <p:sp>
        <p:nvSpPr>
          <p:cNvPr id="319" name="Rectangle 39"/>
          <p:cNvSpPr/>
          <p:nvPr/>
        </p:nvSpPr>
        <p:spPr>
          <a:xfrm>
            <a:off x="762120" y="3524400"/>
            <a:ext cx="80769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） 求身高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与指距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） 当李华的指距为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22cm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你能预测他的身高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1325160" y="4900680"/>
            <a:ext cx="66283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分析：</a:t>
            </a:r>
            <a:r>
              <a:rPr b="0" lang="zh-CN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上表</a:t>
            </a:r>
            <a:r>
              <a:rPr b="0" lang="en-US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3</a:t>
            </a:r>
            <a:r>
              <a:rPr b="0" lang="zh-CN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组数据反映了身高</a:t>
            </a:r>
            <a:r>
              <a:rPr b="0" i="1" lang="en-US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y</a:t>
            </a:r>
            <a:r>
              <a:rPr b="0" lang="zh-CN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与指距</a:t>
            </a:r>
            <a:r>
              <a:rPr b="0" i="1" lang="en-US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x</a:t>
            </a:r>
            <a:r>
              <a:rPr b="0" lang="zh-CN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之间的对应关系，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          </a:t>
            </a:r>
            <a:r>
              <a:rPr b="0" lang="zh-CN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观察这两个变量之间的变化规律，当指距增加</a:t>
            </a:r>
            <a:r>
              <a:rPr b="0" lang="en-US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1cm</a:t>
            </a:r>
            <a:r>
              <a:rPr b="0" lang="zh-CN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，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          </a:t>
            </a:r>
            <a:r>
              <a:rPr b="0" lang="zh-CN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身高就增加</a:t>
            </a:r>
            <a:r>
              <a:rPr b="0" lang="en-US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9cm</a:t>
            </a:r>
            <a:r>
              <a:rPr b="0" lang="zh-CN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，可以尝试建立一次函数模型</a:t>
            </a:r>
            <a:r>
              <a:rPr b="0" lang="en-US" sz="2500" spc="-1" strike="noStrike">
                <a:solidFill>
                  <a:srgbClr val="2f2f00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6"/>
          <p:cNvGrpSpPr/>
          <p:nvPr/>
        </p:nvGrpSpPr>
        <p:grpSpPr>
          <a:xfrm>
            <a:off x="860400" y="1635120"/>
            <a:ext cx="9981720" cy="2467440"/>
            <a:chOff x="860400" y="1635120"/>
            <a:chExt cx="9981720" cy="2467440"/>
          </a:xfrm>
        </p:grpSpPr>
        <p:sp>
          <p:nvSpPr>
            <p:cNvPr id="323" name="Rectangle 5"/>
            <p:cNvSpPr/>
            <p:nvPr/>
          </p:nvSpPr>
          <p:spPr>
            <a:xfrm>
              <a:off x="860400" y="1635120"/>
              <a:ext cx="7616520" cy="246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解：设身高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0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与指距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0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之间的函数表达式为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 = kx + b</a:t>
              </a: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将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=</a:t>
              </a: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9</a:t>
              </a:r>
              <a:r>
                <a:rPr b="0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 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=</a:t>
              </a: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51</a:t>
              </a:r>
              <a:r>
                <a:rPr b="0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与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 </a:t>
              </a: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 20</a:t>
              </a:r>
              <a:r>
                <a:rPr b="0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160</a:t>
              </a:r>
              <a:r>
                <a:rPr b="0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代入上式，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       </a:t>
              </a: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9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k</a:t>
              </a: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+ 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b </a:t>
              </a: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 151</a:t>
              </a:r>
              <a:r>
                <a:rPr b="0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            </a:t>
              </a: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20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k</a:t>
              </a: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+ 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b</a:t>
              </a: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= 160.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17"/>
            <p:cNvSpPr/>
            <p:nvPr/>
          </p:nvSpPr>
          <p:spPr>
            <a:xfrm>
              <a:off x="1774440" y="2701800"/>
              <a:ext cx="152280" cy="838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0"/>
            <p:cNvSpPr/>
            <p:nvPr/>
          </p:nvSpPr>
          <p:spPr>
            <a:xfrm>
              <a:off x="9699480" y="2778120"/>
              <a:ext cx="114264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1"/>
            <p:cNvSpPr/>
            <p:nvPr/>
          </p:nvSpPr>
          <p:spPr>
            <a:xfrm>
              <a:off x="9699480" y="3311280"/>
              <a:ext cx="114264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30"/>
          <p:cNvSpPr/>
          <p:nvPr/>
        </p:nvSpPr>
        <p:spPr>
          <a:xfrm>
            <a:off x="1570680" y="762120"/>
            <a:ext cx="439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） 求身高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与指距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表达式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847800" y="3801960"/>
            <a:ext cx="77724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k =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9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 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b =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20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于是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 =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9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0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20.                                                          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838080" y="4927680"/>
            <a:ext cx="68580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将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 =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21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 =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169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代入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式也符合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公式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就是身高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与指距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之间的函数表达式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766800" y="2151000"/>
            <a:ext cx="538488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：当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= 22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时， </a:t>
            </a:r>
            <a:r>
              <a:rPr b="0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= 9×22</a:t>
            </a:r>
            <a:r>
              <a:rPr b="0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20 = 17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，李华的身高大约是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178 c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1742040" y="1143000"/>
            <a:ext cx="542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） 当李华的指距为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22cm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你能预测他的身高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文本框 10874"/>
          <p:cNvSpPr/>
          <p:nvPr/>
        </p:nvSpPr>
        <p:spPr>
          <a:xfrm>
            <a:off x="395280" y="549360"/>
            <a:ext cx="8424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近几年来，由于经济和社会发展迅速，用电量越来越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缓解用电紧张，某电力公司特制定了新的用电收费标准，每月用电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度）与应付电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的关系如图所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10876"/>
          <p:cNvSpPr/>
          <p:nvPr/>
        </p:nvSpPr>
        <p:spPr>
          <a:xfrm>
            <a:off x="611280" y="206064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你根据图象所描述的信息，分别求出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≤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≤5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gt;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10878"/>
          <p:cNvSpPr/>
          <p:nvPr/>
        </p:nvSpPr>
        <p:spPr>
          <a:xfrm>
            <a:off x="250920" y="3068640"/>
            <a:ext cx="4825800" cy="36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≤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≤5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时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由图象可设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其经过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代入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5=50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∴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0.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∴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0.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由图象可设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其经过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0,2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、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0,7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0.9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-20,∴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0.9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508720" y="3186000"/>
            <a:ext cx="71280" cy="2521080"/>
            <a:chOff x="5508720" y="3186000"/>
            <a:chExt cx="71280" cy="2521080"/>
          </a:xfrm>
        </p:grpSpPr>
        <p:sp>
          <p:nvSpPr>
            <p:cNvPr id="336" name="直接连接符 10881"/>
            <p:cNvSpPr/>
            <p:nvPr/>
          </p:nvSpPr>
          <p:spPr>
            <a:xfrm>
              <a:off x="5508720" y="3186000"/>
              <a:ext cx="71280" cy="252108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5508720" y="3186000"/>
              <a:ext cx="71280" cy="252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579640" y="5635800"/>
            <a:ext cx="2592720" cy="71280"/>
            <a:chOff x="5579640" y="5635800"/>
            <a:chExt cx="2592720" cy="71280"/>
          </a:xfrm>
        </p:grpSpPr>
        <p:sp>
          <p:nvSpPr>
            <p:cNvPr id="339" name="直接连接符 10882"/>
            <p:cNvSpPr/>
            <p:nvPr/>
          </p:nvSpPr>
          <p:spPr>
            <a:xfrm flipV="1">
              <a:off x="5580000" y="5635800"/>
              <a:ext cx="2592360" cy="7128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 rot="10800000">
              <a:off x="5579640" y="5635800"/>
              <a:ext cx="2592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580000" y="5202360"/>
            <a:ext cx="73080" cy="360"/>
            <a:chOff x="5580000" y="5202360"/>
            <a:chExt cx="73080" cy="360"/>
          </a:xfrm>
        </p:grpSpPr>
        <p:sp>
          <p:nvSpPr>
            <p:cNvPr id="342" name="直接连接符 10884"/>
            <p:cNvSpPr/>
            <p:nvPr/>
          </p:nvSpPr>
          <p:spPr>
            <a:xfrm>
              <a:off x="5580000" y="520236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5580000" y="520236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553000" y="4687920"/>
            <a:ext cx="73080" cy="360"/>
            <a:chOff x="5553000" y="4687920"/>
            <a:chExt cx="73080" cy="360"/>
          </a:xfrm>
        </p:grpSpPr>
        <p:sp>
          <p:nvSpPr>
            <p:cNvPr id="345" name="直接连接符 10885"/>
            <p:cNvSpPr/>
            <p:nvPr/>
          </p:nvSpPr>
          <p:spPr>
            <a:xfrm>
              <a:off x="5553000" y="468792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553000" y="468792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546880" y="4173480"/>
            <a:ext cx="72720" cy="360"/>
            <a:chOff x="5546880" y="4173480"/>
            <a:chExt cx="72720" cy="360"/>
          </a:xfrm>
        </p:grpSpPr>
        <p:sp>
          <p:nvSpPr>
            <p:cNvPr id="348" name="直接连接符 10886"/>
            <p:cNvSpPr/>
            <p:nvPr/>
          </p:nvSpPr>
          <p:spPr>
            <a:xfrm>
              <a:off x="5546880" y="4173480"/>
              <a:ext cx="72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5546880" y="4173480"/>
              <a:ext cx="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540400" y="3679920"/>
            <a:ext cx="73080" cy="360"/>
            <a:chOff x="5540400" y="3679920"/>
            <a:chExt cx="73080" cy="360"/>
          </a:xfrm>
        </p:grpSpPr>
        <p:sp>
          <p:nvSpPr>
            <p:cNvPr id="351" name="直接连接符 10887"/>
            <p:cNvSpPr/>
            <p:nvPr/>
          </p:nvSpPr>
          <p:spPr>
            <a:xfrm>
              <a:off x="5540400" y="3679920"/>
              <a:ext cx="73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5540400" y="3679920"/>
              <a:ext cx="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6000840" y="5635800"/>
            <a:ext cx="360" cy="71280"/>
            <a:chOff x="6000840" y="5635800"/>
            <a:chExt cx="360" cy="71280"/>
          </a:xfrm>
        </p:grpSpPr>
        <p:sp>
          <p:nvSpPr>
            <p:cNvPr id="354" name="直接连接符 10888"/>
            <p:cNvSpPr/>
            <p:nvPr/>
          </p:nvSpPr>
          <p:spPr>
            <a:xfrm>
              <a:off x="6000840" y="5635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6000840" y="5635800"/>
              <a:ext cx="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461280" y="5607000"/>
            <a:ext cx="360" cy="71640"/>
            <a:chOff x="6461280" y="5607000"/>
            <a:chExt cx="360" cy="71640"/>
          </a:xfrm>
        </p:grpSpPr>
        <p:sp>
          <p:nvSpPr>
            <p:cNvPr id="357" name="直接连接符 10889"/>
            <p:cNvSpPr/>
            <p:nvPr/>
          </p:nvSpPr>
          <p:spPr>
            <a:xfrm>
              <a:off x="6461280" y="56070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6461280" y="5607000"/>
              <a:ext cx="36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921360" y="5595840"/>
            <a:ext cx="360" cy="71640"/>
            <a:chOff x="6921360" y="5595840"/>
            <a:chExt cx="360" cy="71640"/>
          </a:xfrm>
        </p:grpSpPr>
        <p:sp>
          <p:nvSpPr>
            <p:cNvPr id="360" name="直接连接符 10890"/>
            <p:cNvSpPr/>
            <p:nvPr/>
          </p:nvSpPr>
          <p:spPr>
            <a:xfrm>
              <a:off x="6921360" y="55958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6921360" y="5595840"/>
              <a:ext cx="36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364520" y="5584680"/>
            <a:ext cx="360" cy="71640"/>
            <a:chOff x="7364520" y="5584680"/>
            <a:chExt cx="360" cy="71640"/>
          </a:xfrm>
        </p:grpSpPr>
        <p:sp>
          <p:nvSpPr>
            <p:cNvPr id="363" name="直接连接符 10891"/>
            <p:cNvSpPr/>
            <p:nvPr/>
          </p:nvSpPr>
          <p:spPr>
            <a:xfrm>
              <a:off x="7364520" y="558468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7364520" y="5584680"/>
              <a:ext cx="36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文本框 10892"/>
          <p:cNvSpPr/>
          <p:nvPr/>
        </p:nvSpPr>
        <p:spPr>
          <a:xfrm>
            <a:off x="5796000" y="5635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10893"/>
          <p:cNvSpPr/>
          <p:nvPr/>
        </p:nvSpPr>
        <p:spPr>
          <a:xfrm>
            <a:off x="6249960" y="5635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10894"/>
          <p:cNvSpPr/>
          <p:nvPr/>
        </p:nvSpPr>
        <p:spPr>
          <a:xfrm>
            <a:off x="6661080" y="5635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10895"/>
          <p:cNvSpPr/>
          <p:nvPr/>
        </p:nvSpPr>
        <p:spPr>
          <a:xfrm>
            <a:off x="7164360" y="56358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10896"/>
          <p:cNvSpPr/>
          <p:nvPr/>
        </p:nvSpPr>
        <p:spPr>
          <a:xfrm>
            <a:off x="5076720" y="496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10897"/>
          <p:cNvSpPr/>
          <p:nvPr/>
        </p:nvSpPr>
        <p:spPr>
          <a:xfrm>
            <a:off x="5076720" y="45291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10898"/>
          <p:cNvSpPr/>
          <p:nvPr/>
        </p:nvSpPr>
        <p:spPr>
          <a:xfrm>
            <a:off x="5076720" y="4122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10899"/>
          <p:cNvSpPr/>
          <p:nvPr/>
        </p:nvSpPr>
        <p:spPr>
          <a:xfrm>
            <a:off x="4859280" y="31161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10900"/>
          <p:cNvSpPr/>
          <p:nvPr/>
        </p:nvSpPr>
        <p:spPr>
          <a:xfrm>
            <a:off x="5148360" y="5635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10901"/>
          <p:cNvSpPr/>
          <p:nvPr/>
        </p:nvSpPr>
        <p:spPr>
          <a:xfrm>
            <a:off x="5651640" y="30178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10902"/>
          <p:cNvSpPr/>
          <p:nvPr/>
        </p:nvSpPr>
        <p:spPr>
          <a:xfrm>
            <a:off x="8101080" y="55134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580000" y="5202360"/>
            <a:ext cx="865080" cy="360"/>
            <a:chOff x="5580000" y="5202360"/>
            <a:chExt cx="865080" cy="360"/>
          </a:xfrm>
        </p:grpSpPr>
        <p:sp>
          <p:nvSpPr>
            <p:cNvPr id="377" name="直接连接符 10903"/>
            <p:cNvSpPr/>
            <p:nvPr/>
          </p:nvSpPr>
          <p:spPr>
            <a:xfrm>
              <a:off x="5580000" y="5202360"/>
              <a:ext cx="86508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5580000" y="5202360"/>
              <a:ext cx="86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455880" y="5202360"/>
            <a:ext cx="360" cy="504720"/>
            <a:chOff x="6455880" y="5202360"/>
            <a:chExt cx="360" cy="504720"/>
          </a:xfrm>
        </p:grpSpPr>
        <p:sp>
          <p:nvSpPr>
            <p:cNvPr id="380" name="直接连接符 10904"/>
            <p:cNvSpPr/>
            <p:nvPr/>
          </p:nvSpPr>
          <p:spPr>
            <a:xfrm flipV="1">
              <a:off x="6456240" y="5202360"/>
              <a:ext cx="0" cy="50472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 rot="10800000">
              <a:off x="6455880" y="5202360"/>
              <a:ext cx="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580000" y="4267080"/>
            <a:ext cx="1728720" cy="360"/>
            <a:chOff x="5580000" y="4267080"/>
            <a:chExt cx="1728720" cy="360"/>
          </a:xfrm>
        </p:grpSpPr>
        <p:sp>
          <p:nvSpPr>
            <p:cNvPr id="383" name="直接连接符 10905"/>
            <p:cNvSpPr/>
            <p:nvPr/>
          </p:nvSpPr>
          <p:spPr>
            <a:xfrm>
              <a:off x="5580000" y="426708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5580000" y="4267080"/>
              <a:ext cx="172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319880" y="4267080"/>
            <a:ext cx="38160" cy="1368720"/>
            <a:chOff x="7319880" y="4267080"/>
            <a:chExt cx="38160" cy="1368720"/>
          </a:xfrm>
        </p:grpSpPr>
        <p:sp>
          <p:nvSpPr>
            <p:cNvPr id="386" name="直接连接符 10906"/>
            <p:cNvSpPr/>
            <p:nvPr/>
          </p:nvSpPr>
          <p:spPr>
            <a:xfrm flipH="1" flipV="1">
              <a:off x="7319880" y="4267080"/>
              <a:ext cx="38160" cy="136872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 rot="10800000">
              <a:off x="7319880" y="4267080"/>
              <a:ext cx="38160" cy="136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579640" y="5202360"/>
            <a:ext cx="865440" cy="504720"/>
            <a:chOff x="5579640" y="5202360"/>
            <a:chExt cx="865440" cy="504720"/>
          </a:xfrm>
        </p:grpSpPr>
        <p:sp>
          <p:nvSpPr>
            <p:cNvPr id="389" name="直接连接符 10907"/>
            <p:cNvSpPr/>
            <p:nvPr/>
          </p:nvSpPr>
          <p:spPr>
            <a:xfrm flipV="1">
              <a:off x="5580000" y="5202360"/>
              <a:ext cx="865080" cy="504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 rot="10800000">
              <a:off x="5579640" y="5202360"/>
              <a:ext cx="86508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444720" y="4122360"/>
            <a:ext cx="1008720" cy="1079640"/>
            <a:chOff x="6444720" y="4122360"/>
            <a:chExt cx="1008720" cy="1079640"/>
          </a:xfrm>
        </p:grpSpPr>
        <p:sp>
          <p:nvSpPr>
            <p:cNvPr id="392" name="直接连接符 10908"/>
            <p:cNvSpPr/>
            <p:nvPr/>
          </p:nvSpPr>
          <p:spPr>
            <a:xfrm flipV="1">
              <a:off x="6445080" y="4122360"/>
              <a:ext cx="1008360" cy="1079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 rot="10800000">
              <a:off x="6444720" y="4122360"/>
              <a:ext cx="1008360" cy="10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文本框 10909"/>
          <p:cNvSpPr/>
          <p:nvPr/>
        </p:nvSpPr>
        <p:spPr>
          <a:xfrm>
            <a:off x="5076720" y="3833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41207"/>
          <p:cNvSpPr/>
          <p:nvPr/>
        </p:nvSpPr>
        <p:spPr>
          <a:xfrm>
            <a:off x="1187280" y="112536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你的分析：当每月用电量不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度时，收费标准是多少？当每月用电量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度时，收费标准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41208"/>
          <p:cNvSpPr/>
          <p:nvPr/>
        </p:nvSpPr>
        <p:spPr>
          <a:xfrm>
            <a:off x="1547640" y="299736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不超过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度部分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度计算，超过部分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9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度计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1477800" y="249228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简单的一次函数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左大括号 17"/>
          <p:cNvSpPr/>
          <p:nvPr/>
        </p:nvSpPr>
        <p:spPr>
          <a:xfrm>
            <a:off x="3133800" y="1703520"/>
            <a:ext cx="288720" cy="2952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14400 h 2952720"/>
              <a:gd name="textAreaBottom" fmla="*/ 293832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0"/>
                  <a:pt x="10800" y="339"/>
                </a:cubicBezTo>
                <a:lnTo>
                  <a:pt x="10800" y="10461"/>
                </a:lnTo>
                <a:cubicBezTo>
                  <a:pt x="10800" y="10631"/>
                  <a:pt x="5400" y="10800"/>
                  <a:pt x="0" y="10800"/>
                </a:cubicBezTo>
                <a:cubicBezTo>
                  <a:pt x="5400" y="10800"/>
                  <a:pt x="10800" y="10970"/>
                  <a:pt x="10800" y="11139"/>
                </a:cubicBezTo>
                <a:lnTo>
                  <a:pt x="10800" y="21261"/>
                </a:lnTo>
                <a:cubicBezTo>
                  <a:pt x="10800" y="2143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3422520" y="1413000"/>
            <a:ext cx="23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一次函数的表达式及其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3495600" y="4268880"/>
            <a:ext cx="14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段函数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428760" y="549360"/>
            <a:ext cx="120492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境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447"/>
          <p:cNvSpPr/>
          <p:nvPr/>
        </p:nvSpPr>
        <p:spPr>
          <a:xfrm>
            <a:off x="755640" y="981000"/>
            <a:ext cx="7399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同学在探索鞋码的两种长度“码”与“厘米”之间的换算关系时，通过调查获得下表数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42920" y="2347920"/>
          <a:ext cx="6697800" cy="1152360"/>
        </p:xfrm>
        <a:graphic>
          <a:graphicData uri="http://schemas.openxmlformats.org/drawingml/2006/table">
            <a:tbl>
              <a:tblPr/>
              <a:tblGrid>
                <a:gridCol w="1297080"/>
                <a:gridCol w="662040"/>
                <a:gridCol w="834840"/>
                <a:gridCol w="836640"/>
                <a:gridCol w="835200"/>
                <a:gridCol w="834840"/>
                <a:gridCol w="833400"/>
                <a:gridCol w="563760"/>
              </a:tblGrid>
              <a:tr h="603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厘米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文本框 2477"/>
          <p:cNvSpPr/>
          <p:nvPr/>
        </p:nvSpPr>
        <p:spPr>
          <a:xfrm>
            <a:off x="3900600" y="3718080"/>
            <a:ext cx="50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表中提供的信息，在同一直角坐标系中描出相应的点，你能发现这些点的分布有什么规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2481" descr="QQ图片20160129134421"/>
          <p:cNvPicPr/>
          <p:nvPr/>
        </p:nvPicPr>
        <p:blipFill>
          <a:blip r:embed="rId1"/>
          <a:stretch/>
        </p:blipFill>
        <p:spPr>
          <a:xfrm>
            <a:off x="1116000" y="3718080"/>
            <a:ext cx="2590920" cy="23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96309"/>
          <p:cNvSpPr/>
          <p:nvPr/>
        </p:nvSpPr>
        <p:spPr>
          <a:xfrm>
            <a:off x="2371680" y="31971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96310"/>
          <p:cNvSpPr/>
          <p:nvPr/>
        </p:nvSpPr>
        <p:spPr>
          <a:xfrm>
            <a:off x="2371680" y="28386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96311"/>
          <p:cNvSpPr/>
          <p:nvPr/>
        </p:nvSpPr>
        <p:spPr>
          <a:xfrm>
            <a:off x="2371680" y="17017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96312"/>
          <p:cNvSpPr/>
          <p:nvPr/>
        </p:nvSpPr>
        <p:spPr>
          <a:xfrm>
            <a:off x="2371680" y="20620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96313"/>
          <p:cNvSpPr/>
          <p:nvPr/>
        </p:nvSpPr>
        <p:spPr>
          <a:xfrm>
            <a:off x="2371680" y="24638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6314"/>
          <p:cNvSpPr/>
          <p:nvPr/>
        </p:nvSpPr>
        <p:spPr>
          <a:xfrm>
            <a:off x="2376360" y="101448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96315"/>
          <p:cNvSpPr/>
          <p:nvPr/>
        </p:nvSpPr>
        <p:spPr>
          <a:xfrm>
            <a:off x="2371680" y="13701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916360" y="3322800"/>
            <a:ext cx="3149640" cy="360"/>
            <a:chOff x="2916360" y="3322800"/>
            <a:chExt cx="3149640" cy="360"/>
          </a:xfrm>
        </p:grpSpPr>
        <p:sp>
          <p:nvSpPr>
            <p:cNvPr id="91" name="直接连接符 96318"/>
            <p:cNvSpPr/>
            <p:nvPr/>
          </p:nvSpPr>
          <p:spPr>
            <a:xfrm>
              <a:off x="2916360" y="332280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916360" y="332280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916360" y="3141720"/>
            <a:ext cx="3149640" cy="360"/>
            <a:chOff x="2916360" y="3141720"/>
            <a:chExt cx="3149640" cy="360"/>
          </a:xfrm>
        </p:grpSpPr>
        <p:sp>
          <p:nvSpPr>
            <p:cNvPr id="94" name="直接连接符 96319"/>
            <p:cNvSpPr/>
            <p:nvPr/>
          </p:nvSpPr>
          <p:spPr>
            <a:xfrm>
              <a:off x="2916360" y="314172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2916360" y="314172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96320"/>
          <p:cNvGrpSpPr/>
          <p:nvPr/>
        </p:nvGrpSpPr>
        <p:grpSpPr>
          <a:xfrm>
            <a:off x="2914560" y="3681360"/>
            <a:ext cx="3692160" cy="90360"/>
            <a:chOff x="2914560" y="3681360"/>
            <a:chExt cx="3692160" cy="90360"/>
          </a:xfrm>
        </p:grpSpPr>
        <p:grpSp>
          <p:nvGrpSpPr>
            <p:cNvPr id="97" name="组合 96321"/>
            <p:cNvGrpSpPr/>
            <p:nvPr/>
          </p:nvGrpSpPr>
          <p:grpSpPr>
            <a:xfrm>
              <a:off x="3144960" y="3765240"/>
              <a:ext cx="3461760" cy="360"/>
              <a:chOff x="3144960" y="3765240"/>
              <a:chExt cx="3461760" cy="36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3144960" y="3765240"/>
                <a:ext cx="3461760" cy="360"/>
                <a:chOff x="3144960" y="3765240"/>
                <a:chExt cx="3461760" cy="360"/>
              </a:xfrm>
            </p:grpSpPr>
            <p:sp>
              <p:nvSpPr>
                <p:cNvPr id="99" name="直接连接符 96322"/>
                <p:cNvSpPr/>
                <p:nvPr/>
              </p:nvSpPr>
              <p:spPr>
                <a:xfrm>
                  <a:off x="3144960" y="3765240"/>
                  <a:ext cx="34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 txBox="1"/>
                <p:nvPr/>
              </p:nvSpPr>
              <p:spPr>
                <a:xfrm>
                  <a:off x="3144960" y="3765240"/>
                  <a:ext cx="346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301920" y="3765240"/>
                <a:ext cx="3029760" cy="360"/>
                <a:chOff x="3301920" y="3765240"/>
                <a:chExt cx="3029760" cy="360"/>
              </a:xfrm>
            </p:grpSpPr>
            <p:sp>
              <p:nvSpPr>
                <p:cNvPr id="102" name="直接连接符 96323"/>
                <p:cNvSpPr/>
                <p:nvPr/>
              </p:nvSpPr>
              <p:spPr>
                <a:xfrm>
                  <a:off x="3301920" y="3765240"/>
                  <a:ext cx="302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 txBox="1"/>
                <p:nvPr/>
              </p:nvSpPr>
              <p:spPr>
                <a:xfrm>
                  <a:off x="3301920" y="3765240"/>
                  <a:ext cx="3029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任意多边形 96324"/>
            <p:cNvSpPr/>
            <p:nvPr/>
          </p:nvSpPr>
          <p:spPr>
            <a:xfrm>
              <a:off x="2914560" y="3681360"/>
              <a:ext cx="237600" cy="90360"/>
            </a:xfrm>
            <a:custGeom>
              <a:avLst/>
              <a:gdLst/>
              <a:ahLst/>
              <a:rect l="l" t="t" r="r" b="b"/>
              <a:pathLst>
                <a:path w="274" h="56">
                  <a:moveTo>
                    <a:pt x="0" y="56"/>
                  </a:moveTo>
                  <a:cubicBezTo>
                    <a:pt x="22" y="48"/>
                    <a:pt x="45" y="41"/>
                    <a:pt x="67" y="33"/>
                  </a:cubicBezTo>
                  <a:cubicBezTo>
                    <a:pt x="82" y="12"/>
                    <a:pt x="87" y="9"/>
                    <a:pt x="112" y="16"/>
                  </a:cubicBezTo>
                  <a:cubicBezTo>
                    <a:pt x="120" y="38"/>
                    <a:pt x="129" y="42"/>
                    <a:pt x="151" y="50"/>
                  </a:cubicBezTo>
                  <a:cubicBezTo>
                    <a:pt x="177" y="33"/>
                    <a:pt x="201" y="9"/>
                    <a:pt x="230" y="0"/>
                  </a:cubicBezTo>
                  <a:cubicBezTo>
                    <a:pt x="237" y="10"/>
                    <a:pt x="246" y="18"/>
                    <a:pt x="252" y="28"/>
                  </a:cubicBezTo>
                  <a:cubicBezTo>
                    <a:pt x="255" y="33"/>
                    <a:pt x="254" y="40"/>
                    <a:pt x="258" y="44"/>
                  </a:cubicBezTo>
                  <a:cubicBezTo>
                    <a:pt x="262" y="48"/>
                    <a:pt x="274" y="50"/>
                    <a:pt x="274" y="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6325"/>
          <p:cNvGrpSpPr/>
          <p:nvPr/>
        </p:nvGrpSpPr>
        <p:grpSpPr>
          <a:xfrm>
            <a:off x="2825640" y="711360"/>
            <a:ext cx="90360" cy="3060000"/>
            <a:chOff x="2825640" y="711360"/>
            <a:chExt cx="90360" cy="3060000"/>
          </a:xfrm>
        </p:grpSpPr>
        <p:grpSp>
          <p:nvGrpSpPr>
            <p:cNvPr id="106" name=""/>
            <p:cNvGrpSpPr/>
            <p:nvPr/>
          </p:nvGrpSpPr>
          <p:grpSpPr>
            <a:xfrm>
              <a:off x="2906280" y="711360"/>
              <a:ext cx="360" cy="2784960"/>
              <a:chOff x="2906280" y="711360"/>
              <a:chExt cx="360" cy="2784960"/>
            </a:xfrm>
          </p:grpSpPr>
          <p:sp>
            <p:nvSpPr>
              <p:cNvPr id="107" name="直接连接符 96326"/>
              <p:cNvSpPr/>
              <p:nvPr/>
            </p:nvSpPr>
            <p:spPr>
              <a:xfrm flipV="1">
                <a:off x="2906640" y="711360"/>
                <a:ext cx="0" cy="278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 rot="10800000">
                <a:off x="2906280" y="711360"/>
                <a:ext cx="360" cy="2784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任意多边形 96327"/>
            <p:cNvSpPr/>
            <p:nvPr/>
          </p:nvSpPr>
          <p:spPr>
            <a:xfrm rot="16200000">
              <a:off x="2733120" y="3588480"/>
              <a:ext cx="275400" cy="90360"/>
            </a:xfrm>
            <a:custGeom>
              <a:avLst/>
              <a:gdLst/>
              <a:ahLst/>
              <a:rect l="l" t="t" r="r" b="b"/>
              <a:pathLst>
                <a:path w="274" h="56">
                  <a:moveTo>
                    <a:pt x="0" y="56"/>
                  </a:moveTo>
                  <a:cubicBezTo>
                    <a:pt x="22" y="48"/>
                    <a:pt x="45" y="41"/>
                    <a:pt x="67" y="33"/>
                  </a:cubicBezTo>
                  <a:cubicBezTo>
                    <a:pt x="82" y="12"/>
                    <a:pt x="87" y="9"/>
                    <a:pt x="112" y="16"/>
                  </a:cubicBezTo>
                  <a:cubicBezTo>
                    <a:pt x="120" y="38"/>
                    <a:pt x="129" y="42"/>
                    <a:pt x="151" y="50"/>
                  </a:cubicBezTo>
                  <a:cubicBezTo>
                    <a:pt x="177" y="33"/>
                    <a:pt x="201" y="9"/>
                    <a:pt x="230" y="0"/>
                  </a:cubicBezTo>
                  <a:cubicBezTo>
                    <a:pt x="237" y="10"/>
                    <a:pt x="246" y="18"/>
                    <a:pt x="252" y="28"/>
                  </a:cubicBezTo>
                  <a:cubicBezTo>
                    <a:pt x="255" y="33"/>
                    <a:pt x="254" y="40"/>
                    <a:pt x="258" y="44"/>
                  </a:cubicBezTo>
                  <a:cubicBezTo>
                    <a:pt x="262" y="48"/>
                    <a:pt x="274" y="50"/>
                    <a:pt x="274" y="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306600" y="979560"/>
            <a:ext cx="59040" cy="2774880"/>
            <a:chOff x="3306600" y="979560"/>
            <a:chExt cx="59040" cy="2774880"/>
          </a:xfrm>
        </p:grpSpPr>
        <p:sp>
          <p:nvSpPr>
            <p:cNvPr id="111" name="直接连接符 96328"/>
            <p:cNvSpPr/>
            <p:nvPr/>
          </p:nvSpPr>
          <p:spPr>
            <a:xfrm flipV="1">
              <a:off x="3306600" y="979560"/>
              <a:ext cx="59040" cy="2774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 rot="16200000">
              <a:off x="1948680" y="2337480"/>
              <a:ext cx="2774880" cy="5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916360" y="2962440"/>
            <a:ext cx="3149640" cy="360"/>
            <a:chOff x="2916360" y="2962440"/>
            <a:chExt cx="3149640" cy="360"/>
          </a:xfrm>
        </p:grpSpPr>
        <p:sp>
          <p:nvSpPr>
            <p:cNvPr id="114" name="直接连接符 96329"/>
            <p:cNvSpPr/>
            <p:nvPr/>
          </p:nvSpPr>
          <p:spPr>
            <a:xfrm>
              <a:off x="2916360" y="296244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2916360" y="296244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916360" y="2781360"/>
            <a:ext cx="3149640" cy="360"/>
            <a:chOff x="2916360" y="2781360"/>
            <a:chExt cx="3149640" cy="360"/>
          </a:xfrm>
        </p:grpSpPr>
        <p:sp>
          <p:nvSpPr>
            <p:cNvPr id="117" name="直接连接符 96330"/>
            <p:cNvSpPr/>
            <p:nvPr/>
          </p:nvSpPr>
          <p:spPr>
            <a:xfrm>
              <a:off x="2916360" y="278136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2916360" y="278136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916360" y="2602080"/>
            <a:ext cx="3149640" cy="360"/>
            <a:chOff x="2916360" y="2602080"/>
            <a:chExt cx="3149640" cy="360"/>
          </a:xfrm>
        </p:grpSpPr>
        <p:sp>
          <p:nvSpPr>
            <p:cNvPr id="120" name="直接连接符 96331"/>
            <p:cNvSpPr/>
            <p:nvPr/>
          </p:nvSpPr>
          <p:spPr>
            <a:xfrm>
              <a:off x="2916360" y="260208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2916360" y="260208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916360" y="2422440"/>
            <a:ext cx="3149640" cy="360"/>
            <a:chOff x="2916360" y="2422440"/>
            <a:chExt cx="3149640" cy="360"/>
          </a:xfrm>
        </p:grpSpPr>
        <p:sp>
          <p:nvSpPr>
            <p:cNvPr id="123" name="直接连接符 96332"/>
            <p:cNvSpPr/>
            <p:nvPr/>
          </p:nvSpPr>
          <p:spPr>
            <a:xfrm>
              <a:off x="2916360" y="242244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2916360" y="242244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916360" y="2241720"/>
            <a:ext cx="3149640" cy="360"/>
            <a:chOff x="2916360" y="2241720"/>
            <a:chExt cx="3149640" cy="360"/>
          </a:xfrm>
        </p:grpSpPr>
        <p:sp>
          <p:nvSpPr>
            <p:cNvPr id="126" name="直接连接符 96333"/>
            <p:cNvSpPr/>
            <p:nvPr/>
          </p:nvSpPr>
          <p:spPr>
            <a:xfrm>
              <a:off x="2916360" y="224172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2916360" y="224172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916360" y="2062080"/>
            <a:ext cx="3149640" cy="360"/>
            <a:chOff x="2916360" y="2062080"/>
            <a:chExt cx="3149640" cy="360"/>
          </a:xfrm>
        </p:grpSpPr>
        <p:sp>
          <p:nvSpPr>
            <p:cNvPr id="129" name="直接连接符 96334"/>
            <p:cNvSpPr/>
            <p:nvPr/>
          </p:nvSpPr>
          <p:spPr>
            <a:xfrm>
              <a:off x="2916360" y="206208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2916360" y="206208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916360" y="1881360"/>
            <a:ext cx="3149640" cy="360"/>
            <a:chOff x="2916360" y="1881360"/>
            <a:chExt cx="3149640" cy="360"/>
          </a:xfrm>
        </p:grpSpPr>
        <p:sp>
          <p:nvSpPr>
            <p:cNvPr id="132" name="直接连接符 96335"/>
            <p:cNvSpPr/>
            <p:nvPr/>
          </p:nvSpPr>
          <p:spPr>
            <a:xfrm>
              <a:off x="2916360" y="188136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916360" y="188136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916360" y="1701720"/>
            <a:ext cx="3149640" cy="360"/>
            <a:chOff x="2916360" y="1701720"/>
            <a:chExt cx="3149640" cy="360"/>
          </a:xfrm>
        </p:grpSpPr>
        <p:sp>
          <p:nvSpPr>
            <p:cNvPr id="135" name="直接连接符 96336"/>
            <p:cNvSpPr/>
            <p:nvPr/>
          </p:nvSpPr>
          <p:spPr>
            <a:xfrm>
              <a:off x="2916360" y="170172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916360" y="170172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916360" y="1521000"/>
            <a:ext cx="3149640" cy="360"/>
            <a:chOff x="2916360" y="1521000"/>
            <a:chExt cx="3149640" cy="360"/>
          </a:xfrm>
        </p:grpSpPr>
        <p:sp>
          <p:nvSpPr>
            <p:cNvPr id="138" name="直接连接符 96337"/>
            <p:cNvSpPr/>
            <p:nvPr/>
          </p:nvSpPr>
          <p:spPr>
            <a:xfrm>
              <a:off x="2916360" y="152100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2916360" y="152100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916360" y="1341360"/>
            <a:ext cx="3149640" cy="360"/>
            <a:chOff x="2916360" y="1341360"/>
            <a:chExt cx="3149640" cy="360"/>
          </a:xfrm>
        </p:grpSpPr>
        <p:sp>
          <p:nvSpPr>
            <p:cNvPr id="141" name="直接连接符 96338"/>
            <p:cNvSpPr/>
            <p:nvPr/>
          </p:nvSpPr>
          <p:spPr>
            <a:xfrm>
              <a:off x="2916360" y="134136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2916360" y="134136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916360" y="1162080"/>
            <a:ext cx="3149640" cy="360"/>
            <a:chOff x="2916360" y="1162080"/>
            <a:chExt cx="3149640" cy="360"/>
          </a:xfrm>
        </p:grpSpPr>
        <p:sp>
          <p:nvSpPr>
            <p:cNvPr id="144" name="直接连接符 96339"/>
            <p:cNvSpPr/>
            <p:nvPr/>
          </p:nvSpPr>
          <p:spPr>
            <a:xfrm>
              <a:off x="2916360" y="116208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2916360" y="116208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916360" y="981000"/>
            <a:ext cx="3149640" cy="360"/>
            <a:chOff x="2916360" y="981000"/>
            <a:chExt cx="3149640" cy="360"/>
          </a:xfrm>
        </p:grpSpPr>
        <p:sp>
          <p:nvSpPr>
            <p:cNvPr id="147" name="直接连接符 96340"/>
            <p:cNvSpPr/>
            <p:nvPr/>
          </p:nvSpPr>
          <p:spPr>
            <a:xfrm>
              <a:off x="2916360" y="981000"/>
              <a:ext cx="314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2916360" y="981000"/>
              <a:ext cx="31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816000" y="980640"/>
            <a:ext cx="360" cy="2784960"/>
            <a:chOff x="3816000" y="980640"/>
            <a:chExt cx="360" cy="2784960"/>
          </a:xfrm>
        </p:grpSpPr>
        <p:sp>
          <p:nvSpPr>
            <p:cNvPr id="150" name="直接连接符 96341"/>
            <p:cNvSpPr/>
            <p:nvPr/>
          </p:nvSpPr>
          <p:spPr>
            <a:xfrm flipV="1">
              <a:off x="3816360" y="980640"/>
              <a:ext cx="0" cy="27846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 rot="5400000">
              <a:off x="2423520" y="2373120"/>
              <a:ext cx="278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262040" y="977400"/>
            <a:ext cx="33480" cy="2784960"/>
            <a:chOff x="4262040" y="977400"/>
            <a:chExt cx="33480" cy="2784960"/>
          </a:xfrm>
        </p:grpSpPr>
        <p:sp>
          <p:nvSpPr>
            <p:cNvPr id="153" name="直接连接符 96342"/>
            <p:cNvSpPr/>
            <p:nvPr/>
          </p:nvSpPr>
          <p:spPr>
            <a:xfrm flipH="1" flipV="1">
              <a:off x="4262040" y="977400"/>
              <a:ext cx="33480" cy="27846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 rot="5400000">
              <a:off x="2886120" y="2353320"/>
              <a:ext cx="2784600" cy="3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712760" y="977400"/>
            <a:ext cx="33480" cy="2784960"/>
            <a:chOff x="4712760" y="977400"/>
            <a:chExt cx="33480" cy="2784960"/>
          </a:xfrm>
        </p:grpSpPr>
        <p:sp>
          <p:nvSpPr>
            <p:cNvPr id="156" name="直接连接符 96343"/>
            <p:cNvSpPr/>
            <p:nvPr/>
          </p:nvSpPr>
          <p:spPr>
            <a:xfrm flipH="1" flipV="1">
              <a:off x="4712760" y="977400"/>
              <a:ext cx="33480" cy="27846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 rot="5400000">
              <a:off x="3337200" y="2353320"/>
              <a:ext cx="2784600" cy="3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163840" y="979560"/>
            <a:ext cx="34920" cy="2784240"/>
            <a:chOff x="5163840" y="979560"/>
            <a:chExt cx="34920" cy="2784240"/>
          </a:xfrm>
        </p:grpSpPr>
        <p:sp>
          <p:nvSpPr>
            <p:cNvPr id="159" name="直接连接符 96344"/>
            <p:cNvSpPr/>
            <p:nvPr/>
          </p:nvSpPr>
          <p:spPr>
            <a:xfrm flipH="1" flipV="1">
              <a:off x="5163840" y="979560"/>
              <a:ext cx="34920" cy="2784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 rot="5400000">
              <a:off x="3789000" y="2354040"/>
              <a:ext cx="2784240" cy="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614560" y="979560"/>
            <a:ext cx="34920" cy="2784240"/>
            <a:chOff x="5614560" y="979560"/>
            <a:chExt cx="34920" cy="2784240"/>
          </a:xfrm>
        </p:grpSpPr>
        <p:sp>
          <p:nvSpPr>
            <p:cNvPr id="162" name="直接连接符 96345"/>
            <p:cNvSpPr/>
            <p:nvPr/>
          </p:nvSpPr>
          <p:spPr>
            <a:xfrm flipH="1" flipV="1">
              <a:off x="5614560" y="979560"/>
              <a:ext cx="34920" cy="2784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 rot="5400000">
              <a:off x="4239720" y="2354040"/>
              <a:ext cx="2784240" cy="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062760" y="977400"/>
            <a:ext cx="33120" cy="2784960"/>
            <a:chOff x="6062760" y="977400"/>
            <a:chExt cx="33120" cy="2784960"/>
          </a:xfrm>
        </p:grpSpPr>
        <p:sp>
          <p:nvSpPr>
            <p:cNvPr id="165" name="直接连接符 96346"/>
            <p:cNvSpPr/>
            <p:nvPr/>
          </p:nvSpPr>
          <p:spPr>
            <a:xfrm flipH="1" flipV="1">
              <a:off x="6062760" y="977400"/>
              <a:ext cx="33120" cy="27846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 rot="5400000">
              <a:off x="4686840" y="2353320"/>
              <a:ext cx="2784600" cy="33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文本框 96347"/>
          <p:cNvSpPr/>
          <p:nvPr/>
        </p:nvSpPr>
        <p:spPr>
          <a:xfrm>
            <a:off x="4086360" y="37720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96348"/>
          <p:cNvSpPr/>
          <p:nvPr/>
        </p:nvSpPr>
        <p:spPr>
          <a:xfrm>
            <a:off x="4986360" y="37720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96349"/>
          <p:cNvSpPr/>
          <p:nvPr/>
        </p:nvSpPr>
        <p:spPr>
          <a:xfrm>
            <a:off x="4537080" y="37720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96350"/>
          <p:cNvSpPr/>
          <p:nvPr/>
        </p:nvSpPr>
        <p:spPr>
          <a:xfrm>
            <a:off x="3095640" y="37720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96351"/>
          <p:cNvSpPr/>
          <p:nvPr/>
        </p:nvSpPr>
        <p:spPr>
          <a:xfrm>
            <a:off x="3637080" y="37720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96352"/>
          <p:cNvSpPr/>
          <p:nvPr/>
        </p:nvSpPr>
        <p:spPr>
          <a:xfrm>
            <a:off x="5886360" y="377208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96353"/>
          <p:cNvSpPr/>
          <p:nvPr/>
        </p:nvSpPr>
        <p:spPr>
          <a:xfrm>
            <a:off x="5435640" y="37720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96354"/>
          <p:cNvSpPr/>
          <p:nvPr/>
        </p:nvSpPr>
        <p:spPr>
          <a:xfrm>
            <a:off x="2957400" y="450720"/>
            <a:ext cx="11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96355"/>
          <p:cNvSpPr/>
          <p:nvPr/>
        </p:nvSpPr>
        <p:spPr>
          <a:xfrm>
            <a:off x="6335640" y="377208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厘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96356"/>
          <p:cNvSpPr/>
          <p:nvPr/>
        </p:nvSpPr>
        <p:spPr>
          <a:xfrm>
            <a:off x="3781440" y="2549520"/>
            <a:ext cx="88920" cy="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96357"/>
          <p:cNvSpPr/>
          <p:nvPr/>
        </p:nvSpPr>
        <p:spPr>
          <a:xfrm>
            <a:off x="4245120" y="2178000"/>
            <a:ext cx="88920" cy="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96358"/>
          <p:cNvSpPr/>
          <p:nvPr/>
        </p:nvSpPr>
        <p:spPr>
          <a:xfrm>
            <a:off x="4695840" y="1830240"/>
            <a:ext cx="88920" cy="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96359"/>
          <p:cNvSpPr/>
          <p:nvPr/>
        </p:nvSpPr>
        <p:spPr>
          <a:xfrm>
            <a:off x="5132520" y="1469880"/>
            <a:ext cx="88920" cy="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33280" y="1149480"/>
            <a:ext cx="2700720" cy="2171520"/>
            <a:chOff x="2933280" y="1149480"/>
            <a:chExt cx="2700720" cy="2171520"/>
          </a:xfrm>
        </p:grpSpPr>
        <p:sp>
          <p:nvSpPr>
            <p:cNvPr id="181" name="直接连接符 96360"/>
            <p:cNvSpPr/>
            <p:nvPr/>
          </p:nvSpPr>
          <p:spPr>
            <a:xfrm flipV="1">
              <a:off x="2933640" y="1149480"/>
              <a:ext cx="2700360" cy="21715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 rot="10800000">
              <a:off x="2933280" y="1149120"/>
              <a:ext cx="2700360" cy="217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文本框 96363"/>
          <p:cNvSpPr/>
          <p:nvPr/>
        </p:nvSpPr>
        <p:spPr>
          <a:xfrm>
            <a:off x="900000" y="432900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据说篮球巨人姚明的鞋子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1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那么你知道他穿多大码的鞋子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96364"/>
          <p:cNvSpPr/>
          <p:nvPr/>
        </p:nvSpPr>
        <p:spPr>
          <a:xfrm>
            <a:off x="3309840" y="566100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码，你是怎么判断的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96365"/>
          <p:cNvSpPr/>
          <p:nvPr/>
        </p:nvSpPr>
        <p:spPr>
          <a:xfrm>
            <a:off x="2411280" y="3645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标题 29697"/>
          <p:cNvSpPr/>
          <p:nvPr/>
        </p:nvSpPr>
        <p:spPr>
          <a:xfrm>
            <a:off x="1103400" y="1952640"/>
            <a:ext cx="69260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公司与销售人员签订了这样的工资合同：工资由两部分组成，一部分是基本工资，每人每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另一部分是按月销售量确定的奖励工资，每销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件产品，奖励工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占位符 29698"/>
          <p:cNvSpPr/>
          <p:nvPr/>
        </p:nvSpPr>
        <p:spPr>
          <a:xfrm>
            <a:off x="1103400" y="3824280"/>
            <a:ext cx="69260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某销售员销售产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件，他应得的工资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9699"/>
          <p:cNvSpPr/>
          <p:nvPr/>
        </p:nvSpPr>
        <p:spPr>
          <a:xfrm>
            <a:off x="1176480" y="504180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10x+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6147"/>
          <p:cNvGrpSpPr/>
          <p:nvPr/>
        </p:nvGrpSpPr>
        <p:grpSpPr>
          <a:xfrm>
            <a:off x="325440" y="246240"/>
            <a:ext cx="2693880" cy="805320"/>
            <a:chOff x="325440" y="246240"/>
            <a:chExt cx="2693880" cy="805320"/>
          </a:xfrm>
        </p:grpSpPr>
        <p:sp>
          <p:nvSpPr>
            <p:cNvPr id="191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6151"/>
            <p:cNvSpPr/>
            <p:nvPr/>
          </p:nvSpPr>
          <p:spPr>
            <a:xfrm>
              <a:off x="2483640" y="520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简单的一次函数的应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6152"/>
            <p:cNvSpPr/>
            <p:nvPr/>
          </p:nvSpPr>
          <p:spPr>
            <a:xfrm>
              <a:off x="325440" y="533880"/>
              <a:ext cx="553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圆角矩形 31"/>
          <p:cNvSpPr/>
          <p:nvPr/>
        </p:nvSpPr>
        <p:spPr>
          <a:xfrm>
            <a:off x="501480" y="1289160"/>
            <a:ext cx="119232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文本框 29700"/>
          <p:cNvSpPr/>
          <p:nvPr/>
        </p:nvSpPr>
        <p:spPr>
          <a:xfrm>
            <a:off x="816120" y="673200"/>
            <a:ext cx="725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求出的函数关系式，解决下列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某销售员的工资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他这个月销售了多少件产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9702"/>
          <p:cNvSpPr/>
          <p:nvPr/>
        </p:nvSpPr>
        <p:spPr>
          <a:xfrm>
            <a:off x="1547640" y="2448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41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100=10x+3000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=1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703"/>
          <p:cNvSpPr/>
          <p:nvPr/>
        </p:nvSpPr>
        <p:spPr>
          <a:xfrm>
            <a:off x="857160" y="3622680"/>
            <a:ext cx="72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要使月工资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该月的销售量应当超过多少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9704"/>
          <p:cNvSpPr/>
          <p:nvPr/>
        </p:nvSpPr>
        <p:spPr>
          <a:xfrm>
            <a:off x="1547640" y="47991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题意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x+30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500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5"/>
          <p:cNvSpPr/>
          <p:nvPr/>
        </p:nvSpPr>
        <p:spPr>
          <a:xfrm>
            <a:off x="1168560" y="1494000"/>
            <a:ext cx="60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527120" y="1422360"/>
            <a:ext cx="31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826920" y="330120"/>
            <a:ext cx="715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种称量体重的台秤，最大称量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称体重时，体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 ㎏ ）与指针按顺时针方向转过的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(°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如下一些对应数值：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26920" y="2171880"/>
          <a:ext cx="6985080" cy="1049040"/>
        </p:xfrm>
        <a:graphic>
          <a:graphicData uri="http://schemas.openxmlformats.org/drawingml/2006/table">
            <a:tbl>
              <a:tblPr/>
              <a:tblGrid>
                <a:gridCol w="1165320"/>
                <a:gridCol w="1162080"/>
                <a:gridCol w="1164960"/>
                <a:gridCol w="1165320"/>
                <a:gridCol w="1162080"/>
                <a:gridCol w="1165320"/>
              </a:tblGrid>
              <a:tr h="531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/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/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文本框 3130"/>
          <p:cNvSpPr/>
          <p:nvPr/>
        </p:nvSpPr>
        <p:spPr>
          <a:xfrm>
            <a:off x="843120" y="3222720"/>
            <a:ext cx="72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直角坐标系中，分别以上表中的每对对应数值为横坐标和纵坐标，描点连线，画出图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2"/>
          <p:cNvSpPr/>
          <p:nvPr/>
        </p:nvSpPr>
        <p:spPr>
          <a:xfrm>
            <a:off x="841320" y="431172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，并指出自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3"/>
          <p:cNvSpPr/>
          <p:nvPr/>
        </p:nvSpPr>
        <p:spPr>
          <a:xfrm>
            <a:off x="820800" y="5302080"/>
            <a:ext cx="78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体重为多少千克时，台秤的指针恰好转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度的位置？当体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克时，台秤的指针转过的角度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直接连接符 33793"/>
          <p:cNvSpPr/>
          <p:nvPr/>
        </p:nvSpPr>
        <p:spPr>
          <a:xfrm>
            <a:off x="1819440" y="6165720"/>
            <a:ext cx="3747960" cy="18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33794"/>
          <p:cNvSpPr/>
          <p:nvPr/>
        </p:nvSpPr>
        <p:spPr>
          <a:xfrm flipH="1" flipV="1">
            <a:off x="1806480" y="3040200"/>
            <a:ext cx="28800" cy="31255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33798"/>
          <p:cNvSpPr/>
          <p:nvPr/>
        </p:nvSpPr>
        <p:spPr>
          <a:xfrm flipV="1">
            <a:off x="4716360" y="6021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33801"/>
          <p:cNvSpPr/>
          <p:nvPr/>
        </p:nvSpPr>
        <p:spPr>
          <a:xfrm flipV="1">
            <a:off x="4140360" y="6021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33802"/>
          <p:cNvSpPr/>
          <p:nvPr/>
        </p:nvSpPr>
        <p:spPr>
          <a:xfrm flipV="1">
            <a:off x="4427640" y="6021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33804"/>
          <p:cNvSpPr/>
          <p:nvPr/>
        </p:nvSpPr>
        <p:spPr>
          <a:xfrm flipV="1">
            <a:off x="2987640" y="6021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33805"/>
          <p:cNvSpPr/>
          <p:nvPr/>
        </p:nvSpPr>
        <p:spPr>
          <a:xfrm flipV="1">
            <a:off x="3564000" y="6021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3806"/>
          <p:cNvSpPr/>
          <p:nvPr/>
        </p:nvSpPr>
        <p:spPr>
          <a:xfrm flipV="1">
            <a:off x="3851280" y="6021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33807"/>
          <p:cNvSpPr/>
          <p:nvPr/>
        </p:nvSpPr>
        <p:spPr>
          <a:xfrm flipV="1">
            <a:off x="2411280" y="6021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33808"/>
          <p:cNvSpPr/>
          <p:nvPr/>
        </p:nvSpPr>
        <p:spPr>
          <a:xfrm flipV="1">
            <a:off x="2700360" y="6021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33809"/>
          <p:cNvSpPr/>
          <p:nvPr/>
        </p:nvSpPr>
        <p:spPr>
          <a:xfrm flipV="1">
            <a:off x="3276720" y="6021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33812"/>
          <p:cNvSpPr/>
          <p:nvPr/>
        </p:nvSpPr>
        <p:spPr>
          <a:xfrm flipV="1">
            <a:off x="2124000" y="6021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33813"/>
          <p:cNvSpPr/>
          <p:nvPr/>
        </p:nvSpPr>
        <p:spPr>
          <a:xfrm>
            <a:off x="1819440" y="389556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33814"/>
          <p:cNvSpPr/>
          <p:nvPr/>
        </p:nvSpPr>
        <p:spPr>
          <a:xfrm>
            <a:off x="1819440" y="414828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33815"/>
          <p:cNvSpPr/>
          <p:nvPr/>
        </p:nvSpPr>
        <p:spPr>
          <a:xfrm>
            <a:off x="1819440" y="465300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33816"/>
          <p:cNvSpPr/>
          <p:nvPr/>
        </p:nvSpPr>
        <p:spPr>
          <a:xfrm>
            <a:off x="1835280" y="515772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33817"/>
          <p:cNvSpPr/>
          <p:nvPr/>
        </p:nvSpPr>
        <p:spPr>
          <a:xfrm>
            <a:off x="1835280" y="566100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33818"/>
          <p:cNvSpPr/>
          <p:nvPr/>
        </p:nvSpPr>
        <p:spPr>
          <a:xfrm>
            <a:off x="1819440" y="440064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33819"/>
          <p:cNvSpPr/>
          <p:nvPr/>
        </p:nvSpPr>
        <p:spPr>
          <a:xfrm>
            <a:off x="1819440" y="492588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33820"/>
          <p:cNvSpPr/>
          <p:nvPr/>
        </p:nvSpPr>
        <p:spPr>
          <a:xfrm>
            <a:off x="1835280" y="5411880"/>
            <a:ext cx="1458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33821"/>
          <p:cNvSpPr/>
          <p:nvPr/>
        </p:nvSpPr>
        <p:spPr>
          <a:xfrm>
            <a:off x="1835280" y="593100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33825"/>
          <p:cNvSpPr/>
          <p:nvPr/>
        </p:nvSpPr>
        <p:spPr>
          <a:xfrm>
            <a:off x="1819440" y="3643200"/>
            <a:ext cx="144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33826"/>
          <p:cNvSpPr/>
          <p:nvPr/>
        </p:nvSpPr>
        <p:spPr>
          <a:xfrm>
            <a:off x="5298480" y="59292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33827"/>
          <p:cNvSpPr/>
          <p:nvPr/>
        </p:nvSpPr>
        <p:spPr>
          <a:xfrm>
            <a:off x="1455120" y="27255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33828"/>
          <p:cNvSpPr/>
          <p:nvPr/>
        </p:nvSpPr>
        <p:spPr>
          <a:xfrm>
            <a:off x="1476360" y="5878440"/>
            <a:ext cx="4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33829"/>
          <p:cNvSpPr/>
          <p:nvPr/>
        </p:nvSpPr>
        <p:spPr>
          <a:xfrm>
            <a:off x="2197800" y="59720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33830"/>
          <p:cNvSpPr/>
          <p:nvPr/>
        </p:nvSpPr>
        <p:spPr>
          <a:xfrm>
            <a:off x="2772360" y="59720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33831"/>
          <p:cNvSpPr/>
          <p:nvPr/>
        </p:nvSpPr>
        <p:spPr>
          <a:xfrm>
            <a:off x="3348720" y="59720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3832"/>
          <p:cNvSpPr/>
          <p:nvPr/>
        </p:nvSpPr>
        <p:spPr>
          <a:xfrm>
            <a:off x="3925080" y="59720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3833"/>
          <p:cNvSpPr/>
          <p:nvPr/>
        </p:nvSpPr>
        <p:spPr>
          <a:xfrm>
            <a:off x="4514040" y="59720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33835"/>
          <p:cNvSpPr/>
          <p:nvPr/>
        </p:nvSpPr>
        <p:spPr>
          <a:xfrm>
            <a:off x="1362960" y="52689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3836"/>
          <p:cNvSpPr/>
          <p:nvPr/>
        </p:nvSpPr>
        <p:spPr>
          <a:xfrm>
            <a:off x="1196280" y="3760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1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33838"/>
          <p:cNvSpPr/>
          <p:nvPr/>
        </p:nvSpPr>
        <p:spPr>
          <a:xfrm>
            <a:off x="1348560" y="47721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33839"/>
          <p:cNvSpPr/>
          <p:nvPr/>
        </p:nvSpPr>
        <p:spPr>
          <a:xfrm>
            <a:off x="1214640" y="4260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33844"/>
          <p:cNvSpPr/>
          <p:nvPr/>
        </p:nvSpPr>
        <p:spPr>
          <a:xfrm>
            <a:off x="1806480" y="4148280"/>
            <a:ext cx="2909880" cy="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33845"/>
          <p:cNvSpPr/>
          <p:nvPr/>
        </p:nvSpPr>
        <p:spPr>
          <a:xfrm>
            <a:off x="1825560" y="4653000"/>
            <a:ext cx="2892600" cy="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33846"/>
          <p:cNvSpPr/>
          <p:nvPr/>
        </p:nvSpPr>
        <p:spPr>
          <a:xfrm>
            <a:off x="1854360" y="5157720"/>
            <a:ext cx="2862000" cy="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33847"/>
          <p:cNvSpPr/>
          <p:nvPr/>
        </p:nvSpPr>
        <p:spPr>
          <a:xfrm>
            <a:off x="1819440" y="5661000"/>
            <a:ext cx="2898720" cy="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33852"/>
          <p:cNvSpPr/>
          <p:nvPr/>
        </p:nvSpPr>
        <p:spPr>
          <a:xfrm>
            <a:off x="2411280" y="3643200"/>
            <a:ext cx="1800" cy="251460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3853"/>
          <p:cNvSpPr/>
          <p:nvPr/>
        </p:nvSpPr>
        <p:spPr>
          <a:xfrm flipH="1">
            <a:off x="2987280" y="3637080"/>
            <a:ext cx="1800" cy="252072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33854"/>
          <p:cNvSpPr/>
          <p:nvPr/>
        </p:nvSpPr>
        <p:spPr>
          <a:xfrm>
            <a:off x="3564000" y="3676680"/>
            <a:ext cx="1440" cy="248112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33855"/>
          <p:cNvSpPr/>
          <p:nvPr/>
        </p:nvSpPr>
        <p:spPr>
          <a:xfrm>
            <a:off x="4140360" y="3637080"/>
            <a:ext cx="0" cy="252072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33860"/>
          <p:cNvSpPr/>
          <p:nvPr/>
        </p:nvSpPr>
        <p:spPr>
          <a:xfrm>
            <a:off x="1523880" y="4572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3861"/>
          <p:cNvSpPr/>
          <p:nvPr/>
        </p:nvSpPr>
        <p:spPr>
          <a:xfrm flipV="1">
            <a:off x="1844640" y="3776760"/>
            <a:ext cx="2736720" cy="2365200"/>
          </a:xfrm>
          <a:prstGeom prst="line">
            <a:avLst/>
          </a:prstGeom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33863"/>
          <p:cNvSpPr/>
          <p:nvPr/>
        </p:nvSpPr>
        <p:spPr>
          <a:xfrm>
            <a:off x="898560" y="392040"/>
            <a:ext cx="67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直角坐标系中，分别以上表中的每对对应数值为横坐标和纵坐标，描点连线，画出图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33864"/>
          <p:cNvSpPr/>
          <p:nvPr/>
        </p:nvSpPr>
        <p:spPr>
          <a:xfrm flipH="1">
            <a:off x="1823760" y="5661000"/>
            <a:ext cx="5871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33871"/>
          <p:cNvSpPr/>
          <p:nvPr/>
        </p:nvSpPr>
        <p:spPr>
          <a:xfrm flipV="1">
            <a:off x="2411280" y="5660640"/>
            <a:ext cx="0" cy="49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928800" y="1643040"/>
          <a:ext cx="6686280" cy="1279440"/>
        </p:xfrm>
        <a:graphic>
          <a:graphicData uri="http://schemas.openxmlformats.org/drawingml/2006/table">
            <a:tbl>
              <a:tblPr/>
              <a:tblGrid>
                <a:gridCol w="1056960"/>
                <a:gridCol w="1128600"/>
                <a:gridCol w="1123920"/>
                <a:gridCol w="1125720"/>
                <a:gridCol w="1125360"/>
                <a:gridCol w="1125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/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/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直接连接符 33904"/>
          <p:cNvSpPr/>
          <p:nvPr/>
        </p:nvSpPr>
        <p:spPr>
          <a:xfrm>
            <a:off x="4427640" y="3895560"/>
            <a:ext cx="34920" cy="8424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33909"/>
          <p:cNvSpPr/>
          <p:nvPr/>
        </p:nvSpPr>
        <p:spPr>
          <a:xfrm>
            <a:off x="4572000" y="3979800"/>
            <a:ext cx="0" cy="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33915"/>
          <p:cNvSpPr/>
          <p:nvPr/>
        </p:nvSpPr>
        <p:spPr>
          <a:xfrm flipH="1">
            <a:off x="3814560" y="4400640"/>
            <a:ext cx="36360" cy="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33916"/>
          <p:cNvSpPr/>
          <p:nvPr/>
        </p:nvSpPr>
        <p:spPr>
          <a:xfrm>
            <a:off x="3814920" y="4508640"/>
            <a:ext cx="0" cy="0"/>
          </a:xfrm>
          <a:prstGeom prst="line">
            <a:avLst/>
          </a:prstGeom>
          <a:ln cap="rnd" w="3240">
            <a:solidFill>
              <a:srgbClr val="ff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椭圆 3"/>
          <p:cNvSpPr/>
          <p:nvPr/>
        </p:nvSpPr>
        <p:spPr>
          <a:xfrm>
            <a:off x="2374920" y="5635800"/>
            <a:ext cx="76320" cy="74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椭圆 4"/>
          <p:cNvSpPr/>
          <p:nvPr/>
        </p:nvSpPr>
        <p:spPr>
          <a:xfrm>
            <a:off x="3397320" y="4724280"/>
            <a:ext cx="74520" cy="74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5"/>
          <p:cNvSpPr/>
          <p:nvPr/>
        </p:nvSpPr>
        <p:spPr>
          <a:xfrm>
            <a:off x="3962520" y="4235400"/>
            <a:ext cx="7596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椭圆 6"/>
          <p:cNvSpPr/>
          <p:nvPr/>
        </p:nvSpPr>
        <p:spPr>
          <a:xfrm>
            <a:off x="4102200" y="411336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7"/>
          <p:cNvSpPr/>
          <p:nvPr/>
        </p:nvSpPr>
        <p:spPr>
          <a:xfrm>
            <a:off x="1797120" y="6121440"/>
            <a:ext cx="75960" cy="74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3131"/>
          <p:cNvSpPr/>
          <p:nvPr/>
        </p:nvSpPr>
        <p:spPr>
          <a:xfrm>
            <a:off x="914400" y="1009800"/>
            <a:ext cx="71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，并指出自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标题 34817"/>
          <p:cNvSpPr/>
          <p:nvPr/>
        </p:nvSpPr>
        <p:spPr>
          <a:xfrm>
            <a:off x="977760" y="2114640"/>
            <a:ext cx="732168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析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由表格给出的数据可以看出，每增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克，台秤的指针按顺时针方向旋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度，所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正比例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"/>
          <p:cNvSpPr/>
          <p:nvPr/>
        </p:nvSpPr>
        <p:spPr>
          <a:xfrm>
            <a:off x="1800000" y="4184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条件可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12/5x(0≤x≤1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52:05Z</dcterms:created>
  <dc:creator> </dc:creator>
  <dc:description> </dc:description>
  <dc:language>en-US</dc:language>
  <cp:lastModifiedBy>Administrator</cp:lastModifiedBy>
  <dcterms:modified xsi:type="dcterms:W3CDTF">2018-12-29T02:52:26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